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2EB-D99A-4503-87A5-AFF9773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0DA-A7CE-4B59-8879-76EA8D1C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98A-74FF-43D7-82C8-59DFFB70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151-C81D-4232-94D0-5ADC3C3F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FAF-ADBB-44B8-B256-2955E6EA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D34-5CF3-4BDB-8351-599D39E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1EB-6BE3-43AE-8407-92E6BFE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408-1CFE-47E0-9130-87E9F7DB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E5E-D613-4049-822B-CA49F30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7F6-9F72-431C-B907-FD0E0D5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658-E70F-4E03-99DB-F711963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C40-1DE6-48C4-A673-A532F49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328E-0DC7-408E-88CE-514111C33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781360"/>
            <a:ext cx="825804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Verdana"/>
              </a:rPr>
              <a:t>PARADIGMA CONSTRUCTIVISTA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21:18:54Z</dcterms:created>
  <dc:creator>Montse</dc:creator>
  <dc:description/>
  <dc:language>en-US</dc:language>
  <cp:lastModifiedBy>Montse</cp:lastModifiedBy>
  <dcterms:modified xsi:type="dcterms:W3CDTF">2008-12-03T21:19:30Z</dcterms:modified>
  <cp:revision>1</cp:revision>
  <dc:subject/>
  <dc:title>Diapositiva 1</dc:title>
</cp:coreProperties>
</file>